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493-118B-48A7-89BE-93227189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956-925F-46DA-A665-2F35F088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E754-77E0-45A0-B1DE-A84AF773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743-356C-4549-97D6-D393C482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7DCA8-F39F-4F0C-A1D7-C7E6FB45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0ED43-8C94-4B68-A64A-5D66622A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759ED-5F8C-4426-9869-6FDDBEA2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3540C-B195-4DD7-B336-A17F91B1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EA500-6671-4789-B8E2-19BA0487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572E1-BBB0-4266-BCAB-14CC7243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4D176-BE55-49C1-928B-41BC5DA4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FFAA-8B57-45E0-9646-2982AAE4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50444-EB40-4F1C-9956-E96E948D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EB1C0-E957-4E8F-87C5-4821158C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DF914-8B02-412D-86BC-9736B1CD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AE847-8F0C-43FE-B519-FB06DDDB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55D23-9B1C-441C-9E4B-677FAC551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274-36D8-4B5F-AE00-B7EC9E65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A45-A673-4719-B57E-52809742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05D-EC26-401D-8230-0BDD6687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8E5-19F9-4937-90EA-4547B6AB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E41-6178-4E10-923B-DA6C5BD3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204-97E1-46B6-B914-A0261F48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CB3-C446-4357-AA52-44F3557C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AF71-A45D-4C57-B741-498A4113B0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9FC5-C08D-47E6-B975-A3E8A54C3F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irst five president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28600" y="38095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Eric Tob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eorge Washingt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Washington was the first president of the U.S. He establish the Washington monument. Made the bill of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4:42:32Z</dcterms:created>
  <dc:creator>eric.tobin</dc:creator>
  <dc:description/>
  <dc:language>en-US</dc:language>
  <cp:lastModifiedBy>eric.tobin</cp:lastModifiedBy>
  <dcterms:modified xsi:type="dcterms:W3CDTF">2008-04-25T14:57:58Z</dcterms:modified>
  <cp:revision>4</cp:revision>
  <dc:subject/>
  <dc:title>Problems with the articles of confederation </dc:title>
</cp:coreProperties>
</file>